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2.wmf" ContentType="image/x-wmf"/>
  <Override PartName="/ppt/media/image8.png" ContentType="image/png"/>
  <Override PartName="/ppt/media/carbrake.wav" ContentType="audio/x-wav"/>
  <Override PartName="/ppt/media/image16.wmf" ContentType="image/x-wmf"/>
  <Override PartName="/ppt/media/image7.wmf" ContentType="image/x-wmf"/>
  <Override PartName="/ppt/media/image11.wmf" ContentType="image/x-wmf"/>
  <Override PartName="/ppt/media/image19.png" ContentType="image/png"/>
  <Override PartName="/ppt/media/image18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111B-36EE-4EB2-B85E-861776E85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A64C-5687-4CA5-8ECB-633D01F86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There are as many different styles and forms of debates as there are debta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8E79-0441-4EE6-AEEF-EAA64920A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be the most effective, you need to make strong, solid points about your topic, but you also need to take apart your opponents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78C8-1937-4285-8799-BD4940130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ing a strategy worked out for your side ahead of time will definitely help you win your debate by being unified and prepared enough to stay coll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026E-EF8E-4A97-B97D-F71ACBF2B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6229-6303-476B-A52E-81CDF1838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B9D9-CE23-450B-BC64-1344EAD35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03A9-0D14-41A5-8410-82A28FC6C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Getting angry, flustered, nervous, upset, or breaking down in any way WILL affect how others see your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Always remember that people rarely decide what side of a formal debate they will argue, so they may not be defending their own views: do not attack your opponent, attack their argument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0C9F-8903-4FCC-A20D-4ED0EA936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 speak clearly: the general rule for public speaking is to speak half as fast and twice as loud as you usually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8C3C-28B9-430F-BCD7-90AC18029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A636-9A45-4AB0-9EB2-EE7B927C3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 are presenting an informed position, being proven wrong is damaging and embarrassing, things everyone wants to av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n exciting speaker, be animated, monotone or dry speaking will bore your audience, not win them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bating is equal parts Substance and 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F578-C305-4A05-B2DF-7F2B03A8E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 do not insult or offend with your anecdotes / jokes, they can be very powerful tools when used prope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3C68-9916-4185-81CE-D139032DC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2C59-97B3-4E34-A2C2-E1E90AD75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ing and being ready for time constraints will make you appear better organized for your debate, it will also make you less nervous about speaking public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AF44-996F-4045-8FD3-31F441CCA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5692-0E97-4F16-A284-3A602B90B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7E87-385B-44AD-B6CA-6D4CC142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B239-48CC-4575-8837-01B3C662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C0BB-4422-4E40-B71C-6A818F676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F265-956B-4758-86C3-F2E831B2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4233-36F6-4492-AF53-36C8E62D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AA00-3E71-4633-96BF-2A9AEAD6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ED40-A7AC-4323-A310-6C723A57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EA9D-9379-42F9-B613-5B1D2B34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1099-19BA-4F92-824E-94A3BCE7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98DA-D7AA-484F-A767-B24743AD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B2D7-D271-433D-98BD-4BBDB3D6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5546-E2AB-4D56-8F35-D187C2729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ebating Tips and Strateg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Object 3" descr=""/>
          <p:cNvPicPr/>
          <p:nvPr/>
        </p:nvPicPr>
        <p:blipFill>
          <a:blip r:embed="rId1"/>
          <a:stretch/>
        </p:blipFill>
        <p:spPr>
          <a:xfrm>
            <a:off x="685800" y="2128680"/>
            <a:ext cx="3809880" cy="38181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many ways to structure a deb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also different strategies for participating in debates, today, we will look at some of these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2"/>
          <p:cNvSpPr txBox="1"/>
          <p:nvPr/>
        </p:nvSpPr>
        <p:spPr>
          <a:xfrm>
            <a:off x="457200" y="228600"/>
            <a:ext cx="83059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Remember: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209680" y="2438280"/>
            <a:ext cx="60199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argument that you do not address in a rebuttal will be left in the memory of others as your opponents stated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wise, any rebuttal from your opponents that you do not address will also be left in the minds of your audience / jud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Object 4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1395360" cy="4648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ject 2" descr=""/>
          <p:cNvPicPr/>
          <p:nvPr/>
        </p:nvPicPr>
        <p:blipFill>
          <a:blip r:embed="rId1"/>
          <a:stretch/>
        </p:blipFill>
        <p:spPr>
          <a:xfrm>
            <a:off x="4724280" y="1447920"/>
            <a:ext cx="3942000" cy="3927240"/>
          </a:xfrm>
          <a:prstGeom prst="rect">
            <a:avLst/>
          </a:prstGeom>
          <a:ln w="0">
            <a:noFill/>
          </a:ln>
        </p:spPr>
      </p:pic>
      <p:pic>
        <p:nvPicPr>
          <p:cNvPr id="84" name="Object 3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4515120" cy="3927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0" y="609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ware of what your partner(s) plans 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0" y="5791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N’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 alone and risk being redundant, make the most of your team’s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31240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3276720" y="380880"/>
            <a:ext cx="5333760" cy="62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DO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 recycle information in your closing speec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TIP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The closing speaker(s) should sum up all </a:t>
            </a:r>
            <a:r>
              <a:rPr b="1" lang="en-US" sz="4000" spc="-1" strike="noStrike" u="sng">
                <a:solidFill>
                  <a:srgbClr val="008000"/>
                </a:solidFill>
                <a:uFillTx/>
                <a:latin typeface="Times New Roman"/>
              </a:rPr>
              <a:t>relevant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 arguments and rebuttals </a:t>
            </a:r>
            <a:r>
              <a:rPr b="1" lang="en-US" sz="4000" spc="-1" strike="noStrike" u="sng">
                <a:solidFill>
                  <a:srgbClr val="008000"/>
                </a:solidFill>
                <a:uFillTx/>
                <a:latin typeface="Times New Roman"/>
              </a:rPr>
              <a:t>without 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introducing any new inform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74600" y="304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COGS.AVI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5530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4572000" y="0"/>
            <a:ext cx="41911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Follow these tips and suggestions, and everything will come together for a successful debate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241" dur="indefinite" restart="never" nodeType="tmRoot">
          <p:childTnLst>
            <p:seq>
              <p:cTn id="24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6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3333cc"/>
                </a:solidFill>
                <a:latin typeface="Times New Roman"/>
              </a:rPr>
              <a:t>THE END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Deba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Object 3" descr=""/>
          <p:cNvPicPr/>
          <p:nvPr/>
        </p:nvPicPr>
        <p:blipFill>
          <a:blip r:embed="rId1"/>
          <a:stretch/>
        </p:blipFill>
        <p:spPr>
          <a:xfrm>
            <a:off x="906480" y="1981080"/>
            <a:ext cx="3368520" cy="4114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t your emotions get the better of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y calm and speak in a clear, rational vo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ebaters do not always choose what side they’re 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5257800" y="304920"/>
            <a:ext cx="2971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Don't '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914400" y="380880"/>
            <a:ext cx="3048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Do'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ver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2"/>
          <p:cNvSpPr txBox="1"/>
          <p:nvPr/>
        </p:nvSpPr>
        <p:spPr>
          <a:xfrm>
            <a:off x="762120" y="457200"/>
            <a:ext cx="76197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Important: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143000" y="2819520"/>
            <a:ext cx="66294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st speaker in a debate must make sure that the resolution being debated is clearly stated and def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N’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de track your opponents with irrelevant points, stay on top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3" descr=""/>
          <p:cNvPicPr/>
          <p:nvPr/>
        </p:nvPicPr>
        <p:blipFill>
          <a:blip r:embed="rId1"/>
          <a:stretch/>
        </p:blipFill>
        <p:spPr>
          <a:xfrm>
            <a:off x="5486400" y="380880"/>
            <a:ext cx="2712960" cy="5749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228600" y="380880"/>
            <a:ext cx="4800600" cy="61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tack your oppon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ck to your planned, researched arg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IP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e cards can help a debater to stay focused, b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’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from them, use them as a gu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ak to the audience or moder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2409840" cy="2562120"/>
          </a:xfrm>
          <a:prstGeom prst="rect">
            <a:avLst/>
          </a:prstGeom>
          <a:ln w="0">
            <a:noFill/>
          </a:ln>
        </p:spPr>
      </p:pic>
      <p:pic>
        <p:nvPicPr>
          <p:cNvPr id="61" name="Object 3" descr=""/>
          <p:cNvPicPr/>
          <p:nvPr/>
        </p:nvPicPr>
        <p:blipFill>
          <a:blip r:embed="rId2"/>
          <a:stretch/>
        </p:blipFill>
        <p:spPr>
          <a:xfrm>
            <a:off x="6227640" y="3276720"/>
            <a:ext cx="2916360" cy="35812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3048120" y="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819520" y="457200"/>
            <a:ext cx="5943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oroughly research your topic and position, the best start to squashing a rebuttal is a well researched, well designed 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457200" y="3352680"/>
            <a:ext cx="52578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mply state fac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path to being a dull spe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stating sources or not backing up statements can lead to heavy rebuttal from your op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3" descr=""/>
          <p:cNvPicPr/>
          <p:nvPr/>
        </p:nvPicPr>
        <p:blipFill>
          <a:blip r:embed="rId1"/>
          <a:stretch/>
        </p:blipFill>
        <p:spPr>
          <a:xfrm>
            <a:off x="5105520" y="3048120"/>
            <a:ext cx="3092400" cy="3282840"/>
          </a:xfrm>
          <a:prstGeom prst="rect">
            <a:avLst/>
          </a:prstGeom>
          <a:ln w="0">
            <a:noFill/>
          </a:ln>
        </p:spPr>
      </p:pic>
      <p:pic>
        <p:nvPicPr>
          <p:cNvPr id="66" name="Object 4" descr=""/>
          <p:cNvPicPr/>
          <p:nvPr/>
        </p:nvPicPr>
        <p:blipFill>
          <a:blip r:embed="rId2"/>
          <a:stretch/>
        </p:blipFill>
        <p:spPr>
          <a:xfrm>
            <a:off x="609480" y="2819520"/>
            <a:ext cx="3132360" cy="3698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62120" y="0"/>
            <a:ext cx="7315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humor and / or anecdotes in your speak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examples helps illustrate your position, and uses an argument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ies or jokes that ar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appropri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very invol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Times New Roman"/>
              </a:rPr>
              <a:t>IMPORTA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clock.avi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1828800" y="4648320"/>
            <a:ext cx="5410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IME IS A VERY IMPORTANT FACTOR IN A DEBATE……………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2971800" cy="2133720"/>
          </a:xfrm>
          <a:prstGeom prst="rect">
            <a:avLst/>
          </a:prstGeom>
          <a:ln w="0">
            <a:noFill/>
          </a:ln>
        </p:spPr>
      </p:pic>
      <p:pic>
        <p:nvPicPr>
          <p:cNvPr id="72" name="Object 3" descr=""/>
          <p:cNvPicPr/>
          <p:nvPr/>
        </p:nvPicPr>
        <p:blipFill>
          <a:blip r:embed="rId2"/>
          <a:stretch/>
        </p:blipFill>
        <p:spPr>
          <a:xfrm>
            <a:off x="5410080" y="0"/>
            <a:ext cx="3733920" cy="2057400"/>
          </a:xfrm>
          <a:prstGeom prst="rect">
            <a:avLst/>
          </a:prstGeom>
          <a:ln w="0">
            <a:noFill/>
          </a:ln>
        </p:spPr>
      </p:pic>
      <p:pic>
        <p:nvPicPr>
          <p:cNvPr id="73" name="Object 4" descr=""/>
          <p:cNvPicPr/>
          <p:nvPr/>
        </p:nvPicPr>
        <p:blipFill>
          <a:blip r:embed="rId3"/>
          <a:stretch/>
        </p:blipFill>
        <p:spPr>
          <a:xfrm>
            <a:off x="0" y="3048120"/>
            <a:ext cx="2895480" cy="3809880"/>
          </a:xfrm>
          <a:prstGeom prst="rect">
            <a:avLst/>
          </a:prstGeom>
          <a:ln w="0">
            <a:noFill/>
          </a:ln>
        </p:spPr>
      </p:pic>
      <p:pic>
        <p:nvPicPr>
          <p:cNvPr id="74" name="Object 5" descr=""/>
          <p:cNvPicPr/>
          <p:nvPr/>
        </p:nvPicPr>
        <p:blipFill>
          <a:blip r:embed="rId4"/>
          <a:stretch/>
        </p:blipFill>
        <p:spPr>
          <a:xfrm>
            <a:off x="7696080" y="2930400"/>
            <a:ext cx="1447920" cy="39276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3200400" y="2286000"/>
            <a:ext cx="396252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aware of time constraints, if there are 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ac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 initial speech so you will be “on top” of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what it feels like to speak for the allotted length of time, speaking too much or not enough weakens your pos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2" descr=""/>
          <p:cNvPicPr/>
          <p:nvPr/>
        </p:nvPicPr>
        <p:blipFill>
          <a:blip r:embed="rId1"/>
          <a:stretch/>
        </p:blipFill>
        <p:spPr>
          <a:xfrm>
            <a:off x="6400800" y="1981080"/>
            <a:ext cx="2743200" cy="48769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2133720" y="3962520"/>
            <a:ext cx="44956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N’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nappropriate language or ges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will ignore your information if not presented in an appropriate man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971800" y="0"/>
            <a:ext cx="5791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y to “juggle” too many points at once. State your ideas in a logical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P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mo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ac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 speaking, the less nervous you will 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bject 7" descr=""/>
          <p:cNvPicPr/>
          <p:nvPr/>
        </p:nvPicPr>
        <p:blipFill>
          <a:blip r:embed="rId2"/>
          <a:stretch/>
        </p:blipFill>
        <p:spPr>
          <a:xfrm>
            <a:off x="0" y="0"/>
            <a:ext cx="2971800" cy="3929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8T14:43:58Z</dcterms:created>
  <dc:creator>Student</dc:creator>
  <dc:description/>
  <dc:language>en-US</dc:language>
  <cp:lastModifiedBy>Kirby Vincent</cp:lastModifiedBy>
  <cp:lastPrinted>2001-02-28T17:49:37Z</cp:lastPrinted>
  <dcterms:modified xsi:type="dcterms:W3CDTF">2012-04-02T09:10:52Z</dcterms:modified>
  <cp:revision>5</cp:revision>
  <dc:subject/>
  <dc:title>Debating Tips and Strategies</dc:title>
</cp:coreProperties>
</file>